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4C1F-B985-44C4-AEA6-2F7D617A3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2F2E-D35C-4EBA-A16B-B9873F40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16F0-8CCF-4ACE-9C1F-3BF2B6A81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00D3-9C9D-4F02-8368-571DFD7BE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8FEB-DF41-42D8-8BE7-AC4E3C25C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DDC4-AB8E-4D8F-8FA0-53C9682F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10BF-498F-4821-9E58-CE80853E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0F41-81EB-491D-BAF5-028F8850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A296-C797-459B-AA2E-9D9B55D3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7048-CCB1-434A-9369-C3E1F26C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6AA0-853A-478C-B0A1-7486D63A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8052-CFDE-437B-8883-E03124C1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0FA3-B16B-4B9B-BCAF-B4BC3192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8398-491A-4EEC-AC23-E5582EEC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FCE7-B19D-487F-81FA-010E0783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48B1-02A8-41ED-B17F-25F604CB4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48F3-620A-4B8E-A8FF-EA3731182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5D8D-256E-4B24-852F-8CB419D8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62AE-FE96-4132-9A06-C9B9C7CC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6CE2-7790-4AC3-B4FE-E97CAF52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6E07-EB64-4753-AFD7-C4A9B9FE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CC21-DD8B-4766-9223-94244855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0E8E-3CB7-4045-977D-DAEBC40C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D09B-CCAE-46BF-AE1D-66C109BA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prstGeom prst="pie">
              <a:avLst/>
            </a:pr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C9A0-A4E1-4FD8-8695-B60A10F1DA2F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prstGeom prst="pie">
              <a:avLst/>
            </a:pr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9095-40AF-405F-A718-3700554CA790}" type="slidenum">
              <a:rPr b="0" lang="it-IT" sz="2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70828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L’analisi delle reti social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C76C-7483-47D3-8172-18AD793C705F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2712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Come ci giudicano gli altri?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560" y="1413000"/>
            <a:ext cx="8893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Il </a:t>
            </a:r>
            <a:r>
              <a:rPr b="0" i="1" lang="it-IT" sz="2600" spc="-1" strike="noStrike">
                <a:solidFill>
                  <a:srgbClr val="545472"/>
                </a:solidFill>
                <a:latin typeface="Tahoma"/>
              </a:rPr>
              <a:t>test di percezione</a:t>
            </a: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 costituisce un ulteriore raffinamento dell’approccio sociometrico.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A ciascun partecipante viene chiesto di indicare le persone che, secondo lui, lo hanno scelto o rifiutato.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Questa possibilità collega la sociometria ad un idea centrale (sviluppata da Cooley, Mead e l’interazionismo simbilico) nella tradizione della psicologia sociale: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noi formiamo la nostra identità guardandoci 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nello “specchio” delle opinioni che gli altri 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hanno di noi.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AC46-3B05-4800-B95F-39EE8BD07577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Dalla Sociometria alla </a:t>
            </a:r>
            <a:r>
              <a:rPr b="0" i="1" lang="it-IT" sz="4000" spc="-1" strike="noStrike">
                <a:solidFill>
                  <a:srgbClr val="660066"/>
                </a:solidFill>
                <a:latin typeface="Tahoma"/>
              </a:rPr>
              <a:t>Social Network </a:t>
            </a:r>
            <a:r>
              <a:rPr b="0" i="1" lang="en-US" sz="4000" spc="-1" strike="noStrike">
                <a:solidFill>
                  <a:srgbClr val="660066"/>
                </a:solidFill>
                <a:latin typeface="Tahoma"/>
              </a:rPr>
              <a:t>Analysi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1280" y="1909440"/>
            <a:ext cx="896472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Ovvero … dall’attrazione / repulsione ai flussi di comunicazione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Non si indagano più gruppi chiusi, ma maglie aperte di relazioni interpersonali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Non si studiano più le strutture delle simpatie, ma il sistema dei contatti; perde senso la valutazione della reciprocità della designazione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F3AD-397F-43AE-90F0-C848DB703D07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Dalla Sociometria alla </a:t>
            </a:r>
            <a:r>
              <a:rPr b="0" i="1" lang="it-IT" sz="4000" spc="-1" strike="noStrike">
                <a:solidFill>
                  <a:srgbClr val="660066"/>
                </a:solidFill>
                <a:latin typeface="Tahoma"/>
              </a:rPr>
              <a:t>Social Network </a:t>
            </a:r>
            <a:r>
              <a:rPr b="0" i="1" lang="en-US" sz="4000" spc="-1" strike="noStrike">
                <a:solidFill>
                  <a:srgbClr val="660066"/>
                </a:solidFill>
                <a:latin typeface="Tahoma"/>
              </a:rPr>
              <a:t>Analysi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1280" y="1909440"/>
            <a:ext cx="896472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Perde significato il concetto di struttura a vantaggio di quello di rete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La rete non esiste di per sé, ma in relazione a un determinato flusso di comunicazione (che può veicolare contenuti diversi)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Quindi all’interno di un gruppo possono esistere più reti; una rete può attraversare un gruppo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262E-074E-4502-9536-E1A7D53D27AC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964720" cy="13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Problema metodologico: i confini delle ret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6160" y="1906560"/>
            <a:ext cx="8818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545472"/>
                </a:solidFill>
                <a:latin typeface="Tahoma"/>
              </a:rPr>
              <a:t>In fase di progettazione, il ricercatore deve stabilire i confini della rete che studia. Quando questi non sono stabiliti dal committente o da caratteristiche strutturali, il ricercatore ha 2 possibilità:</a:t>
            </a:r>
            <a:endParaRPr b="0" lang="en-US" sz="2700" spc="-1" strike="noStrike">
              <a:solidFill>
                <a:srgbClr val="545472"/>
              </a:solidFill>
              <a:latin typeface="Tahoma"/>
            </a:endParaRPr>
          </a:p>
          <a:p>
            <a:pPr marL="6094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spcBef>
                <a:spcPts val="675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545472"/>
                </a:solidFill>
                <a:latin typeface="Tahoma"/>
              </a:rPr>
              <a:t>tentare delle definizioni da sottoporre a controllo empirico;</a:t>
            </a:r>
            <a:endParaRPr b="0" lang="en-US" sz="27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spcBef>
                <a:spcPts val="675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545472"/>
                </a:solidFill>
                <a:latin typeface="Tahoma"/>
              </a:rPr>
              <a:t>ricostruire i confini in base alle percezioni di chi fa parte della rete che sta studiando.</a:t>
            </a:r>
            <a:endParaRPr b="0" lang="en-US" sz="27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04CD-4C1D-4ACA-97E3-323CE29D7E23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8000" y="475920"/>
            <a:ext cx="8964720" cy="69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Problema metodologico: il campionamen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6160" y="1268280"/>
            <a:ext cx="88185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Quando intende studiare reti molto estese, il ricercatore potrebbe aver bisogno di operare un campionamento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972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La logica campionaria tradizionale è stata pensata per selezionare individui e non reti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972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La tecnica di campionamento più adatta alla rilevazione delle reti è lo </a:t>
            </a:r>
            <a:r>
              <a:rPr b="0" i="1" lang="it-IT" sz="2800" spc="-1" strike="noStrike">
                <a:solidFill>
                  <a:srgbClr val="545472"/>
                </a:solidFill>
                <a:latin typeface="Tahoma"/>
              </a:rPr>
              <a:t>snow-ball sampling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972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In questo caso, la scelta dei punti di campionamento iniziale dipende dalla densità della rete, piuttosto che semplicemente dalla sua dimensione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8B07-0CBF-4CB4-8D17-352989FB364F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2560" y="333000"/>
            <a:ext cx="882180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660066"/>
                </a:solidFill>
                <a:latin typeface="Tahoma"/>
              </a:rPr>
              <a:t>Network analysis e teoria sociologica: il concetto di capitale sociale</a:t>
            </a:r>
            <a:endParaRPr b="0" lang="en-US" sz="35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45472"/>
                </a:solidFill>
                <a:latin typeface="Tahoma"/>
              </a:rPr>
              <a:t>Per </a:t>
            </a:r>
            <a:r>
              <a:rPr b="1" lang="it-IT" sz="2400" spc="-1" strike="noStrike">
                <a:solidFill>
                  <a:srgbClr val="545472"/>
                </a:solidFill>
                <a:latin typeface="Tahoma"/>
              </a:rPr>
              <a:t>capitale sociale</a:t>
            </a:r>
            <a:r>
              <a:rPr b="0" lang="it-IT" sz="2400" spc="-1" strike="noStrike">
                <a:solidFill>
                  <a:srgbClr val="545472"/>
                </a:solidFill>
                <a:latin typeface="Tahoma"/>
              </a:rPr>
              <a:t> si intende: l’insieme degli aspetti della struttura sociale che aiutano le persone ad agire collettivamente migliorando il benessere sociale, la crescita e lo sviluppo. Si tratta di un concetto multi-dimensionale e dinamico, che comprende le reti di relazioni interpersonali, le norme sociali e le istituzioni formali e informali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45472"/>
                </a:solidFill>
                <a:latin typeface="Tahoma"/>
              </a:rPr>
              <a:t>Al di là delle importanti differenze che caratterizzano i diversi approcci al capitale sociale, questo concetto costituisce – potenzialmente – una rivoluzione copernicana in sociologia: esso infatti sposta l’attenzione dei ricercatori (e quindi anche il loro modo di fare indagine) dagli attributi individuali a quelli delle relazioni in cui gli individui sono immersi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94BD-F0AB-4E35-AE4E-1ACFAB9E12C8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836280"/>
            <a:ext cx="896472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660066"/>
                </a:solidFill>
                <a:latin typeface="Tahoma"/>
              </a:rPr>
              <a:t>Sociometria</a:t>
            </a:r>
            <a:endParaRPr b="0" lang="en-US" sz="45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320" y="2131560"/>
            <a:ext cx="89596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545472"/>
                </a:solidFill>
                <a:latin typeface="Tahoma"/>
              </a:rPr>
              <a:t>Nel 1925 Jacob Moreno presenta al mondo la Sociometria:</a:t>
            </a:r>
            <a:endParaRPr b="0" lang="en-US" sz="35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545472"/>
                </a:solidFill>
                <a:latin typeface="Tahoma"/>
              </a:rPr>
              <a:t>Repertorio di tecniche di ricerca quantitativa che rilevano e studiano i processi di attrazione e comunicazione che si sviluppano nei gruppi piccoli.</a:t>
            </a:r>
            <a:endParaRPr b="0" lang="en-US" sz="35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AF76-C7E1-42A3-89D9-6FB3EE97F28E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267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Tra ricerca e terap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7640" y="1557000"/>
            <a:ext cx="8893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Nella visione di Moreno, la sociometria era più di una tecnica di ricerca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Oltre a rilevare lo stato delle relazioni interpersonali all’interno di un gruppo, una ricerca sociometrica dovrebbe anche mobilitare, coinvolgere, rendere i membri </a:t>
            </a:r>
            <a:r>
              <a:rPr b="1" lang="it-IT" sz="3200" spc="-1" strike="noStrike">
                <a:solidFill>
                  <a:srgbClr val="545472"/>
                </a:solidFill>
                <a:latin typeface="Tahoma"/>
              </a:rPr>
              <a:t>consapevoli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 del e </a:t>
            </a:r>
            <a:r>
              <a:rPr b="1" lang="it-IT" sz="3200" spc="-1" strike="noStrike">
                <a:solidFill>
                  <a:srgbClr val="545472"/>
                </a:solidFill>
                <a:latin typeface="Tahoma"/>
              </a:rPr>
              <a:t>interessati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 al proprio gruppo. In questo senso, era un vero e proprio </a:t>
            </a:r>
            <a:r>
              <a:rPr b="1" lang="it-IT" sz="3200" spc="-1" strike="noStrike">
                <a:solidFill>
                  <a:srgbClr val="545472"/>
                </a:solidFill>
                <a:latin typeface="Tahoma"/>
              </a:rPr>
              <a:t>trattamento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399D-D4EE-491D-AC80-58ECE8D4F70F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8000" y="266760"/>
            <a:ext cx="8964720" cy="71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Il “raffreddamento” della Sociometri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8920" y="1546200"/>
            <a:ext cx="882036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Ben presto (fine anni ’30) la sociometria perde la sua missione terapeutica, trasformandosi in una affermata tecnica di rilevazione particolarmente usata dagli psicologi.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Il suo obiettivo è soprattutto rilevare l’</a:t>
            </a:r>
            <a:r>
              <a:rPr b="0" i="1" lang="it-IT" sz="3000" spc="-1" strike="noStrike">
                <a:solidFill>
                  <a:srgbClr val="545472"/>
                </a:solidFill>
                <a:latin typeface="Tahoma"/>
              </a:rPr>
              <a:t>attrazione interpersonale</a:t>
            </a: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, cioè il processo di scelta che sta alla base delle strutture di relazione e comunicazione dei piccoli gruppi.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DB2B-2756-4F04-BECF-161DC14533E0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l test sociometr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Sostanzialmente si basa su due domande: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Con chi vai più d’accordo tra i membri del gruppo?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Con chi non vai d’accordo tra i membri del gruppo?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A partire da questo nucleo centrale sono stati sviluppati diversi affinamenti, ognuno dei quali si basa su un diverso criterio di attrazione (con chi lavori meglio, a chi affideresti un progetto, con chi andresti a fare una vacanza, a chi affideresti tuo figlio, etc.)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AB9B-C6D5-47DC-97AA-392A880ECE17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9440" y="698040"/>
            <a:ext cx="827892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Preparare un test socimetr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8000" y="1835280"/>
            <a:ext cx="899784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Quando si realizza un test sociometrico, a ciascun partecipante viene chiesto di designare un numero prefissato di scelte e di repulsioni. Affinché i dati ottenuti con un test sociometrico siano validi, il ricercatore deve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chiarire il senso di concetti come “accordo”, “preferenza”, etc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convincere i partecipanti a svolgere lo scomodo compito di indicare simpatici e antipatici …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7197-CA58-4A6E-A4F7-04FB7E177F1F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6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La matrice sociometric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54" name="Object 4"/>
          <p:cNvGraphicFramePr/>
          <p:nvPr/>
        </p:nvGraphicFramePr>
        <p:xfrm>
          <a:off x="250920" y="946080"/>
          <a:ext cx="8713800" cy="557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46080"/>
                    <a:ext cx="871380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2D1C-368F-49B0-9188-893ECFE26C4F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554040"/>
            <a:ext cx="91440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La matrice sociometrica per studiare individui</a:t>
            </a:r>
            <a:endParaRPr b="0" lang="en-US" sz="33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81080" y="1474560"/>
            <a:ext cx="827856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I partecipanti a un test sociometrico possono essere classificati in base …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al loro </a:t>
            </a:r>
            <a:r>
              <a:rPr b="1" lang="it-IT" sz="2800" spc="-1" strike="noStrike">
                <a:solidFill>
                  <a:srgbClr val="545472"/>
                </a:solidFill>
                <a:latin typeface="Tahoma"/>
              </a:rPr>
              <a:t>status sociometrico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(il bilancio delle scelte e dei rifiuti ricevuti);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alla loro </a:t>
            </a:r>
            <a:r>
              <a:rPr b="1" lang="it-IT" sz="2800" spc="-1" strike="noStrike">
                <a:solidFill>
                  <a:srgbClr val="545472"/>
                </a:solidFill>
                <a:latin typeface="Tahoma"/>
              </a:rPr>
              <a:t>centralità sociometrica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(il bilancio delle scelte e dei rifiuti reciproci);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al loro </a:t>
            </a:r>
            <a:r>
              <a:rPr b="1" lang="it-IT" sz="2800" spc="-1" strike="noStrike">
                <a:solidFill>
                  <a:srgbClr val="545472"/>
                </a:solidFill>
                <a:latin typeface="Tahoma"/>
              </a:rPr>
              <a:t>grado di isolamento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(il numero di designazioni ricevute, indipendentemente dal fatto che si tratti di scelte o rifiuti)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A3F9-0271-42C4-B41A-4784E1CE86ED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964720" cy="10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La matrice sociometrica per studiare i sotto-gruppi</a:t>
            </a:r>
            <a:endParaRPr b="0" lang="en-US" sz="33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81080" y="1690200"/>
            <a:ext cx="871200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Oltre alle domande per fare le designazioni, il ricercatore può includere in un test sociometrico altre domande classiche da questionario (età, sesso, stato civile, ruolo nell’organizzazione, etc.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Successivamente, i partecipanti al test sociometrico possono essere divisi in sottogruppi per analizzare il grado di apertura (</a:t>
            </a:r>
            <a:r>
              <a:rPr b="0" i="1" lang="it-IT" sz="2800" spc="-1" strike="noStrike">
                <a:solidFill>
                  <a:srgbClr val="545472"/>
                </a:solidFill>
                <a:latin typeface="Tahoma"/>
              </a:rPr>
              <a:t>in-group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/ </a:t>
            </a:r>
            <a:r>
              <a:rPr b="0" i="1" lang="it-IT" sz="2800" spc="-1" strike="noStrike">
                <a:solidFill>
                  <a:srgbClr val="545472"/>
                </a:solidFill>
                <a:latin typeface="Tahoma"/>
              </a:rPr>
              <a:t>out-group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) di ciascun sottogruppo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21:40:13Z</dcterms:created>
  <dc:creator>Gabriella</dc:creator>
  <dc:description/>
  <dc:language>en-US</dc:language>
  <cp:lastModifiedBy>vitali</cp:lastModifiedBy>
  <dcterms:modified xsi:type="dcterms:W3CDTF">2008-08-26T12:48:22Z</dcterms:modified>
  <cp:revision>96</cp:revision>
  <dc:subject/>
  <dc:title>Esercitazione 16 novembre 2004</dc:title>
</cp:coreProperties>
</file>